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2B81-FB45-46A8-A7F6-ECE9EE15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9F78-8A01-4879-862A-76F9AE59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EE3-2D25-4E01-A730-D7C8F638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0A4E-94E5-46AA-9CDF-84AC0C4E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A7E-DB9A-4A0D-93AB-1A7ECBAA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5CD-4D85-47AF-BD9B-CEB7DB6B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8B9A-F598-491E-982C-C5C789ED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7EDB-E596-43B8-8534-6D05BECB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3F7C-8AFD-49FE-8203-5DF7821A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912-26C6-4761-ACEB-389A90E8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D03-A044-495F-8D91-4021306B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DB6-3EEE-4A85-8755-6294D5B7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31F8-4810-4AE8-883B-7122C4E1F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grace of the Lord Jesus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 love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the communion of the Holy 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e with you all.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so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0:04:49Z</dcterms:created>
  <dc:creator>Anon Anon</dc:creator>
  <dc:description/>
  <dc:language>en-US</dc:language>
  <cp:lastModifiedBy>Anon Anon</cp:lastModifiedBy>
  <dcterms:modified xsi:type="dcterms:W3CDTF">2005-08-09T05:21:46Z</dcterms:modified>
  <cp:revision>8</cp:revision>
  <dc:subject/>
  <dc:title>PowerPoint Presentation</dc:title>
</cp:coreProperties>
</file>